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961A-5938-4994-A433-CB1AD8461B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A514-7D42-4E65-85E4-81D95FDD49D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5A95-DD6D-4A59-B96A-1F1411ECB36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4738-0A56-4AC2-9812-6C66CE3B8E87}"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0203-3F96-4E13-BF9C-C073B346108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EB25-8F2C-4AA6-87F8-A459216C52E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E1BC-3D3D-41B4-9912-8491885E658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19CD-04CC-4394-B4A3-0D4E65939DA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1C79-5A59-4A37-B241-850458A61EF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E7CA-B1F4-4EB1-B05C-24EACA0BD5C3}"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1279-6284-40DA-8082-C14DDE8BFB46}"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4812-01FB-4B5B-A263-42E45E1B4D4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7AB4-7433-4299-9BA6-F4901717B768}"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39EB-68C4-4A73-8AD6-32CA05C9E80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AC96-FF22-4522-8B92-F0DCCF2F1757}"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27C1-3F68-4AE5-9308-6400442A4C2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C540-E188-446E-A807-36FA5D6AF35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4CAD-4EEA-461A-934F-050128455712}"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4D13-7F29-4D8C-8E69-DD5726D4B56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50C4-A3C4-4582-81B5-5B149731AF1E}"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8442-685B-4B6A-968C-B8E602D68BD0}"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D3A9-CCC4-44EE-84D0-08A275B9625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36C9-C2E2-4B6D-9FEC-536C220E7946}"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0668-AD2A-4F26-A8FD-870571651E8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E301-40BA-4C7C-9959-78DE7C982F5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7408-F914-459E-BF84-2F2CCABC41B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E62B-7F86-41AB-8C16-D91603E9A231}"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CB33-2806-42C8-B744-F57F779A139C}"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DC03-14D6-4AA2-9032-4CAA6C3F082E}"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CEC2-F58C-4F85-B583-D3342C3EDC76}"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0A81-FE7D-402F-B001-A05FDD5916D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7F8A-C452-4CCC-93F3-38F575FA86BE}"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8575-86ED-4A58-A3DB-B9C1631F4C35}"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EC8A-F019-44BB-85BF-1BD74D319408}"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1C92-2A2A-437D-9E9B-E7D1BEC7ECAF}"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E578-82BB-4A5F-9F00-4176E90B3283}"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424C-6AAC-4A27-97E8-66B05A1D8302}"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48BC-1E26-47EC-A4FC-7414D199A058}"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E628-060E-41FF-B274-35F4411051A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7B67-979B-44F4-AFB1-92F90F30B654}"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F4AC-4351-4BC4-BAB6-806E77C2DD6A}"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0C8F-71D1-4B01-9AF4-E25FF085AD3B}"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A9B0-955C-4854-B634-5824FEE4B973}" type="slidenum">
              <a:rPr b="0" lang="en-U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A94FB-586A-48A2-878A-4EDF97EF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ED6BC-F86A-43A1-A022-B9389161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953F9-9D67-42B3-97E9-15D077328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77658-C863-4E8E-9291-7F6FBEBAD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67D6F-BF2A-4136-925D-3D7D62D4F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7A1A2-0FBB-4CEB-84E8-05D0A9BB3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0858A-4809-46D4-9688-3E7911D81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0BE02-5E01-4AD8-BE88-A8246CBE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01961-5918-47FA-9197-915A3F3C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BC968-EBA5-4603-8549-A06DFD803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37F32-2D92-4AA1-9810-015ACE62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DD644-4CC1-4A52-A0FE-7119FDEF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FC6B-2D3E-4A6F-96C1-F61E7EF0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9B37-4509-4C6D-8B83-AA4C5C505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06959-A6AA-4C13-AF0E-CE6C3225D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C6322-88D6-4FBC-B5F0-850F7898A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6FF4E-F68F-46F1-BCD0-9C33E2911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D4FA-D4E3-43AE-AB8A-373B0F4E6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0F71-9A92-4053-AC2D-3156751FF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8D816-9244-48C4-A97F-3A58AB8E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6768-6B28-4C98-9DF7-E75EE24B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E0E8-8B87-45D3-AB08-E9665073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99A9-4AB6-44E0-BA4D-9D458FBD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A548-FF8F-4717-8129-85069B7C6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4FA9-AC45-40FF-B270-EA7E7322236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C059-0509-43A9-B2B5-51900665DC4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andbook of Instructional Leadership</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Really Good Principals Promote Teaching and Learning </a:t>
            </a:r>
            <a:endParaRPr b="0" lang="en-US" sz="2800" spc="-1" strike="noStrike">
              <a:solidFill>
                <a:srgbClr val="003366"/>
              </a:solidFill>
              <a:latin typeface="Arial"/>
            </a:endParaRPr>
          </a:p>
        </p:txBody>
      </p:sp>
      <p:sp>
        <p:nvSpPr>
          <p:cNvPr id="103" name="Text Box 4"/>
          <p:cNvSpPr/>
          <p:nvPr/>
        </p:nvSpPr>
        <p:spPr>
          <a:xfrm>
            <a:off x="4937040" y="5299200"/>
            <a:ext cx="3292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Text Box 5"/>
          <p:cNvSpPr/>
          <p:nvPr/>
        </p:nvSpPr>
        <p:spPr>
          <a:xfrm>
            <a:off x="4708080" y="522288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Jo Blase and Joseph Blas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Reform Related to Instructional Supervision and Leadership (Clark and Clark 1996)</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ing and sustaining educational purpose</a:t>
            </a:r>
            <a:endParaRPr b="0" lang="en-US" sz="2400" spc="-1" strike="noStrike">
              <a:solidFill>
                <a:srgbClr val="003366"/>
              </a:solidFill>
              <a:latin typeface="Arial"/>
            </a:endParaRPr>
          </a:p>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ing and nurturing community </a:t>
            </a:r>
            <a:endParaRPr b="0" lang="en-US" sz="2400" spc="-1" strike="noStrike">
              <a:solidFill>
                <a:srgbClr val="003366"/>
              </a:solidFill>
              <a:latin typeface="Arial"/>
            </a:endParaRPr>
          </a:p>
          <a:p>
            <a:pPr marL="501480" indent="-501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stering personal and organizational growth</a:t>
            </a:r>
            <a:endParaRPr b="0" lang="en-US" sz="2400" spc="-1" strike="noStrike">
              <a:solidFill>
                <a:srgbClr val="003366"/>
              </a:solidFill>
              <a:latin typeface="Arial"/>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dership Processes</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rong sense of miss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red vis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bs of communication</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eakdown of hierarchies</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red goverance</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l development</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felong learning </a:t>
            </a:r>
            <a:endParaRPr b="0" lang="en-US" sz="1800" spc="-1" strike="noStrike">
              <a:solidFill>
                <a:srgbClr val="003366"/>
              </a:solidFill>
              <a:latin typeface="Arial"/>
            </a:endParaRPr>
          </a:p>
          <a:p>
            <a:pPr marL="501480" indent="-50148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rning communiti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Issues in the Field </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bolishing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benefits of supervision to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nciling the estrangement between curriculum and supervis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ch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ame supervision itself</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giality between supervisors and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elationship between staff development and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ional standards for preparation of supervis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influence of business management practi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viability of clinical supervis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 technology influences supervis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2 – The Conference: Heart of Instructional Supervision</a:t>
            </a:r>
            <a:endParaRPr b="1" lang="en-US" sz="3600" spc="-1" strike="noStrike">
              <a:solidFill>
                <a:srgbClr val="006666"/>
              </a:solidFill>
              <a:latin typeface="Arial"/>
            </a:endParaRPr>
          </a:p>
        </p:txBody>
      </p:sp>
      <p:sp>
        <p:nvSpPr>
          <p:cNvPr id="127"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i="1" lang="en-US" sz="1800" spc="-1" strike="noStrike">
                <a:solidFill>
                  <a:srgbClr val="003366"/>
                </a:solidFill>
                <a:latin typeface="Arial"/>
              </a:rPr>
              <a:t>Once mutual concerns and ideas are shared, and suggestions are discussed, it ( the conference) becomes a planning conference in which teacher and supervisor, collaboratively, decide on continued use of effective, observable teaching behaviors, further collection of observational data, and/or work on a plan for the development of specific teaching behaviors that enhance the teaching proces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Ovando,</a:t>
            </a:r>
            <a:r>
              <a:rPr b="0" lang="en-US" sz="1800" spc="-1" strike="noStrike">
                <a:solidFill>
                  <a:srgbClr val="003366"/>
                </a:solidFill>
                <a:latin typeface="Arial"/>
              </a:rPr>
              <a:t> 1991, p. 21</a:t>
            </a:r>
            <a:endParaRPr b="0" lang="en-US" sz="1800" spc="-1" strike="noStrike">
              <a:solidFill>
                <a:srgbClr val="003366"/>
              </a:solidFill>
              <a:latin typeface="Arial"/>
            </a:endParaRPr>
          </a:p>
        </p:txBody>
      </p:sp>
      <p:pic>
        <p:nvPicPr>
          <p:cNvPr id="128" name="Picture 5" descr="PE01561_"/>
          <p:cNvPicPr/>
          <p:nvPr/>
        </p:nvPicPr>
        <p:blipFill>
          <a:blip r:embed="rId1"/>
          <a:stretch/>
        </p:blipFill>
        <p:spPr>
          <a:xfrm>
            <a:off x="914400" y="2925720"/>
            <a:ext cx="3924360" cy="26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k With Teacher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 Tru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the group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ster collaboration and collegia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peer coach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e in classroo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er with teachers about teaching and lear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ower teacher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visi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od Principals Use Five Primary Conference Strategies </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ggestions for improvement of instr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t classrooms and give feedback</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el good instruction by actually teaching a cla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Inquiry – ask questions about the teachers metho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iciting Advice and Opinions from teach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3 - Staff Development: Promoting Professional Growth</a:t>
            </a:r>
            <a:endParaRPr b="1" lang="en-US" sz="3600" spc="-1" strike="noStrike">
              <a:solidFill>
                <a:srgbClr val="006666"/>
              </a:solidFill>
              <a:latin typeface="Arial"/>
            </a:endParaRPr>
          </a:p>
        </p:txBody>
      </p:sp>
      <p:sp>
        <p:nvSpPr>
          <p:cNvPr id="134"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eachers need new work habits] that are collegial and public…not solo and private…a new way of learning about learning</a:t>
            </a:r>
            <a:r>
              <a:rPr b="0" lang="en-US" sz="2400" spc="-1" strike="noStrike">
                <a:solidFill>
                  <a:srgbClr val="003366"/>
                </a:solidFill>
                <a:latin typeface="Arial"/>
              </a:rPr>
              <a:t>.        Meier,1995</a:t>
            </a:r>
            <a:endParaRPr b="0" lang="en-US" sz="2400" spc="-1" strike="noStrike">
              <a:solidFill>
                <a:srgbClr val="003366"/>
              </a:solidFill>
              <a:latin typeface="Arial"/>
            </a:endParaRPr>
          </a:p>
        </p:txBody>
      </p:sp>
      <p:pic>
        <p:nvPicPr>
          <p:cNvPr id="135" name="Picture 5" descr="BD04972_"/>
          <p:cNvPicPr/>
          <p:nvPr/>
        </p:nvPicPr>
        <p:blipFill>
          <a:blip r:embed="rId1"/>
          <a:stretch/>
        </p:blipFill>
        <p:spPr>
          <a:xfrm>
            <a:off x="914400" y="2757600"/>
            <a:ext cx="3924360" cy="29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ote Teachers’ Professional Growth</a:t>
            </a:r>
            <a:endParaRPr b="1" lang="en-US" sz="3600" spc="-1" strike="noStrike">
              <a:solidFill>
                <a:srgbClr val="006666"/>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y literature and proven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practice of new skills, risk taking, innovation, and creativ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effective staff development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principles of adult growth and develop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aise, support, and facilitate teachers’ wor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resources and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sugges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ps for Leaders to Enhance Professional Development</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ild an atmosphere of democracy and culture of learning among teachers and administrat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olve faculty and parents in school improvemen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e training in action research</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sess the effects of instruction and the climate of the school</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ganize a staff development council to coordinate activiti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cus staff development on curriculum, instruction, and technology</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ganize study group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peer coaching relationship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e time for collaboratio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itment of time in studying outcom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4 – Reflection: Encouraging Critical Study</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Reflective thinking] involves (1) a state of doubt, hesitation, perplexity, mental difficulty, in which thinking originates, and (2) an act of searching, hunting, inquiring, to find material that will resolve the doubt, settle and dispose of the perplexity.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ewey,1933 p.12</a:t>
            </a:r>
            <a:endParaRPr b="0" lang="en-US" sz="2000" spc="-1" strike="noStrike">
              <a:solidFill>
                <a:srgbClr val="003366"/>
              </a:solidFill>
              <a:latin typeface="Arial"/>
            </a:endParaRPr>
          </a:p>
        </p:txBody>
      </p:sp>
      <p:pic>
        <p:nvPicPr>
          <p:cNvPr id="142" name="Picture 5" descr="PE02719_"/>
          <p:cNvPicPr/>
          <p:nvPr/>
        </p:nvPicPr>
        <p:blipFill>
          <a:blip r:embed="rId1"/>
          <a:stretch/>
        </p:blipFill>
        <p:spPr>
          <a:xfrm>
            <a:off x="5024520" y="2362320"/>
            <a:ext cx="3857400" cy="373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ster Teacher Reflection</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teachers’ reflection skills in order to construct professional knowledge and develop sociopolitical insight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 and develop teachers’ critical study(action research) skill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room observations – Ask teachers to reflect on their behavio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come inquiry oriented – Ask questions and have dialogue with teache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data to question, evaluate, and critique teaching and learning. Make Sugges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end autonomy to teacher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aise teachers for concrete teaching behavior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 I: The Art and Science of Instructional Leadership</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1 The Craft of Teacher Superv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2 The Conference: Heart of Instructional Superv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3 Staff Development: Promoting Professional Growt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4 Reflection: Encouraging Critical Stu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couraging Reflection</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is often a shared learning experienc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me must be allotted for reflective dialogu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ck of trust precludes reflection that might otherwise lead to school improvement.</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is sense mak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bility to reflect must be developed over time.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velopment of reflection skills requires verbal support and mode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 II: Supervisors’ Behaviors- Positive and Negative- Affect Teachers </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5 – Being Visible Versus Interrupting and Abandon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6 – Praising Versus Criticiz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7 – Extending Autonomy Versus Maintaining Contr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8 – Conclusion: Building a Learning Commun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5 – Being Visible Versus Interrupting and Abandoning</a:t>
            </a:r>
            <a:endParaRPr b="1" lang="en-US" sz="3600" spc="-1" strike="noStrike">
              <a:solidFill>
                <a:srgbClr val="006666"/>
              </a:solidFill>
              <a:latin typeface="Arial"/>
            </a:endParaRPr>
          </a:p>
        </p:txBody>
      </p:sp>
      <p:pic>
        <p:nvPicPr>
          <p:cNvPr id="150" name="Picture 7" descr="BD05552_"/>
          <p:cNvPicPr/>
          <p:nvPr/>
        </p:nvPicPr>
        <p:blipFill>
          <a:blip r:embed="rId1"/>
          <a:stretch/>
        </p:blipFill>
        <p:spPr>
          <a:xfrm>
            <a:off x="3276720" y="2362320"/>
            <a:ext cx="434340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ng Visible results:</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morale and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hanced self-este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d sense of secur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lection and reflectively oriented behavi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rupting and Abandoning results in:</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g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w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ychic p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elings of no suppo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s of respect for princip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6 – Praising Versus Criticizing</a:t>
            </a:r>
            <a:endParaRPr b="1" lang="en-US" sz="3600" spc="-1" strike="noStrike">
              <a:solidFill>
                <a:srgbClr val="006666"/>
              </a:solidFill>
              <a:latin typeface="Arial"/>
            </a:endParaRPr>
          </a:p>
        </p:txBody>
      </p:sp>
      <p:pic>
        <p:nvPicPr>
          <p:cNvPr id="156" name="Picture 5" descr="BD05584_"/>
          <p:cNvPicPr/>
          <p:nvPr/>
        </p:nvPicPr>
        <p:blipFill>
          <a:blip r:embed="rId1"/>
          <a:stretch/>
        </p:blipFill>
        <p:spPr>
          <a:xfrm>
            <a:off x="2819520" y="236232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ising results in:</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moti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eling rewarded, cared ab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hanced self-esteem and confid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ngness to comp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lection and reflectively oriented behavi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s of Principals Wandering Around and Visiting Teachers </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tivates Teach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Instr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ible and Provides Suppo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Keep Informed of Activiti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ndering Has Negative Effect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ruption of class – taking valuable teaching time away from teac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fered with teachers teaching – correcting teachers method of teaching during the clas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Picture 5" descr="BD04956_"/>
          <p:cNvPicPr/>
          <p:nvPr/>
        </p:nvPicPr>
        <p:blipFill>
          <a:blip r:embed="rId1"/>
          <a:stretch/>
        </p:blipFill>
        <p:spPr>
          <a:xfrm>
            <a:off x="4991040" y="2895480"/>
            <a:ext cx="392436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zing results in:</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motiv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maged self-estee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us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s of respect and trust for princip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earing to comply;ignoring, avoiding princip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stance and rebell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utious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1 - The Craft of Teacher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Supervision</a:t>
            </a:r>
            <a:endParaRPr b="1" lang="en-US" sz="3600" spc="-1" strike="noStrike">
              <a:solidFill>
                <a:srgbClr val="006666"/>
              </a:solidFill>
              <a:latin typeface="Arial"/>
            </a:endParaRPr>
          </a:p>
        </p:txBody>
      </p:sp>
      <p:sp>
        <p:nvSpPr>
          <p:cNvPr id="108" name="PlaceHolder 2"/>
          <p:cNvSpPr>
            <a:spLocks noGrp="1"/>
          </p:cNvSpPr>
          <p:nvPr>
            <p:ph/>
          </p:nvPr>
        </p:nvSpPr>
        <p:spPr>
          <a:xfrm>
            <a:off x="4990680" y="2361960"/>
            <a:ext cx="3924360" cy="3733560"/>
          </a:xfrm>
          <a:prstGeom prst="rect">
            <a:avLst/>
          </a:prstGeom>
          <a:noFill/>
          <a:ln w="0">
            <a:noFill/>
          </a:ln>
        </p:spPr>
        <p:txBody>
          <a:bodyPr anchor="t">
            <a:normAutofit/>
          </a:bodyPr>
          <a:p>
            <a:pPr marL="457200" indent="-457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ncipal should promote:</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ctive practice of teaching </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ring of instructional leadership with teachers</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ernatives and not directives should be used</a:t>
            </a:r>
            <a:endParaRPr b="0" lang="en-US" sz="2000" spc="-1" strike="noStrike">
              <a:solidFill>
                <a:srgbClr val="003366"/>
              </a:solidFill>
              <a:latin typeface="Arial"/>
            </a:endParaRPr>
          </a:p>
          <a:p>
            <a:pPr marL="457200" indent="-45720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giality to support instructional supervision</a:t>
            </a:r>
            <a:endParaRPr b="0" lang="en-US" sz="2000" spc="-1" strike="noStrike">
              <a:solidFill>
                <a:srgbClr val="003366"/>
              </a:solidFill>
              <a:latin typeface="Arial"/>
            </a:endParaRPr>
          </a:p>
        </p:txBody>
      </p:sp>
      <p:pic>
        <p:nvPicPr>
          <p:cNvPr id="109" name="Picture 5" descr="PE03254_"/>
          <p:cNvPicPr/>
          <p:nvPr/>
        </p:nvPicPr>
        <p:blipFill>
          <a:blip r:embed="rId1"/>
          <a:stretch/>
        </p:blipFill>
        <p:spPr>
          <a:xfrm>
            <a:off x="914400" y="2459160"/>
            <a:ext cx="3924360" cy="353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7 - Extending Autonomy Versus Maintaining Control</a:t>
            </a:r>
            <a:endParaRPr b="1" lang="en-US" sz="3600" spc="-1" strike="noStrike">
              <a:solidFill>
                <a:srgbClr val="006666"/>
              </a:solidFill>
              <a:latin typeface="Arial"/>
            </a:endParaRPr>
          </a:p>
        </p:txBody>
      </p:sp>
      <p:pic>
        <p:nvPicPr>
          <p:cNvPr id="167" name="Picture 5" descr="PE01605_"/>
          <p:cNvPicPr/>
          <p:nvPr/>
        </p:nvPicPr>
        <p:blipFill>
          <a:blip r:embed="rId1"/>
          <a:stretch/>
        </p:blipFill>
        <p:spPr>
          <a:xfrm>
            <a:off x="1981080" y="2514600"/>
            <a:ext cx="563904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utonomy results in:</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 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hanced self-esteem and confid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sense of security and professional discre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 and reflectively oriented behavior</a:t>
            </a:r>
            <a:endParaRPr b="0" lang="en-US" sz="2400" spc="-1" strike="noStrike">
              <a:solidFill>
                <a:srgbClr val="003366"/>
              </a:solidFill>
              <a:latin typeface="Arial"/>
            </a:endParaRPr>
          </a:p>
        </p:txBody>
      </p:sp>
      <p:pic>
        <p:nvPicPr>
          <p:cNvPr id="170" name="Picture 5" descr="SY00451_"/>
          <p:cNvPicPr/>
          <p:nvPr/>
        </p:nvPicPr>
        <p:blipFill>
          <a:blip r:embed="rId1"/>
          <a:stretch/>
        </p:blipFill>
        <p:spPr>
          <a:xfrm>
            <a:off x="5380200" y="2362320"/>
            <a:ext cx="3144600" cy="373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taining Control results in:</a:t>
            </a:r>
            <a:endParaRPr b="1" lang="en-US" sz="3600" spc="-1" strike="noStrike">
              <a:solidFill>
                <a:srgbClr val="006666"/>
              </a:solidFill>
              <a:latin typeface="Arial"/>
            </a:endParaRPr>
          </a:p>
        </p:txBody>
      </p:sp>
      <p:sp>
        <p:nvSpPr>
          <p:cNvPr id="172" name="PlaceHolder 2"/>
          <p:cNvSpPr>
            <a:spLocks noGrp="1"/>
          </p:cNvSpPr>
          <p:nvPr>
            <p:ph/>
          </p:nvPr>
        </p:nvSpPr>
        <p:spPr>
          <a:xfrm>
            <a:off x="499068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involvement in decision making(false image of govern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e of being manipulat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abused</a:t>
            </a:r>
            <a:endParaRPr b="0" lang="en-US" sz="2400" spc="-1" strike="noStrike">
              <a:solidFill>
                <a:srgbClr val="003366"/>
              </a:solidFill>
              <a:latin typeface="Arial"/>
            </a:endParaRPr>
          </a:p>
        </p:txBody>
      </p:sp>
      <p:pic>
        <p:nvPicPr>
          <p:cNvPr id="173" name="Picture 7" descr="BD05537_"/>
          <p:cNvPicPr/>
          <p:nvPr/>
        </p:nvPicPr>
        <p:blipFill>
          <a:blip r:embed="rId1"/>
          <a:stretch/>
        </p:blipFill>
        <p:spPr>
          <a:xfrm>
            <a:off x="1446120" y="2362320"/>
            <a:ext cx="2860920" cy="3733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lling Leadership – Negative Effects on Teachers</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este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fuln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us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s of respect and trust for the principal</a:t>
            </a:r>
            <a:endParaRPr b="0" lang="en-US" sz="2400" spc="-1" strike="noStrike">
              <a:solidFill>
                <a:srgbClr val="003366"/>
              </a:solidFill>
              <a:latin typeface="Arial"/>
            </a:endParaRPr>
          </a:p>
        </p:txBody>
      </p:sp>
      <p:sp>
        <p:nvSpPr>
          <p:cNvPr id="176" name="PlaceHolder 3"/>
          <p:cNvSpPr>
            <a:spLocks noGrp="1"/>
          </p:cNvSpPr>
          <p:nvPr>
            <p:ph/>
          </p:nvPr>
        </p:nvSpPr>
        <p:spPr>
          <a:xfrm>
            <a:off x="4990680" y="2361960"/>
            <a:ext cx="392436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s of quitting teach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i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a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stance/rebell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itt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communication with the princip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8 – Conclusion:Building a Learning Community</a:t>
            </a:r>
            <a:endParaRPr b="1" lang="en-US" sz="3600" spc="-1" strike="noStrike">
              <a:solidFill>
                <a:srgbClr val="006666"/>
              </a:solidFill>
              <a:latin typeface="Arial"/>
            </a:endParaRPr>
          </a:p>
        </p:txBody>
      </p:sp>
      <p:sp>
        <p:nvSpPr>
          <p:cNvPr id="178" name="PlaceHolder 2"/>
          <p:cNvSpPr>
            <a:spLocks noGrp="1"/>
          </p:cNvSpPr>
          <p:nvPr>
            <p:ph/>
          </p:nvPr>
        </p:nvSpPr>
        <p:spPr>
          <a:xfrm>
            <a:off x="914040" y="2361960"/>
            <a:ext cx="3924360" cy="373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Supervision is] a way to assist and facilitate the professional activities of teachers working collaboratively to achieve school improvement through shared decision maki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Zepeda, Wood,&amp; O’Hair, 1996,p29</a:t>
            </a:r>
            <a:endParaRPr b="0" lang="en-US" sz="2400" spc="-1" strike="noStrike">
              <a:solidFill>
                <a:srgbClr val="003366"/>
              </a:solidFill>
              <a:latin typeface="Arial"/>
            </a:endParaRPr>
          </a:p>
        </p:txBody>
      </p:sp>
      <p:sp>
        <p:nvSpPr>
          <p:cNvPr id="179" name="PlaceHolder 3"/>
          <p:cNvSpPr>
            <a:spLocks noGrp="1"/>
          </p:cNvSpPr>
          <p:nvPr>
            <p:ph/>
          </p:nvPr>
        </p:nvSpPr>
        <p:spPr>
          <a:xfrm>
            <a:off x="4991040" y="2361960"/>
            <a:ext cx="415296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The goal in a learning community is to build connections between people, socially and intellectually. Control interferes with this process; it distances people from one another. Commitment strengthens interpersonal connections. As I have argued elsewhere, building a learning community is tantamount to developing a commitment to shared learning.</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Prawat, 1993,p.9</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incipal Behaviors Are Effective Because They Accomplish the Following:</a:t>
            </a:r>
            <a:endParaRPr b="1" lang="en-US" sz="3600" spc="-1" strike="noStrike">
              <a:solidFill>
                <a:srgbClr val="006666"/>
              </a:solidFill>
              <a:latin typeface="Arial"/>
            </a:endParaRPr>
          </a:p>
        </p:txBody>
      </p:sp>
      <p:sp>
        <p:nvSpPr>
          <p:cNvPr id="1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teachers choice and discre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ster non-threatening intera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evidence of authentic inter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 for “pleasing the princip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Then, Is Good Instructional Leadership or Supervision?</a:t>
            </a:r>
            <a:endParaRPr b="1" lang="en-US" sz="3600" spc="-1" strike="noStrike">
              <a:solidFill>
                <a:srgbClr val="006666"/>
              </a:solidFill>
              <a:latin typeface="Arial"/>
            </a:endParaRPr>
          </a:p>
        </p:txBody>
      </p:sp>
      <p:sp>
        <p:nvSpPr>
          <p:cNvPr id="183" name="PlaceHolder 2"/>
          <p:cNvSpPr>
            <a:spLocks noGrp="1"/>
          </p:cNvSpPr>
          <p:nvPr>
            <p:ph/>
          </p:nvPr>
        </p:nvSpPr>
        <p:spPr>
          <a:xfrm>
            <a:off x="914040" y="2361960"/>
            <a:ext cx="8001000" cy="3733560"/>
          </a:xfrm>
          <a:prstGeom prst="rect">
            <a:avLst/>
          </a:prstGeom>
          <a:noFill/>
          <a:ln w="0">
            <a:noFill/>
          </a:ln>
        </p:spPr>
        <p:txBody>
          <a:bodyPr anchor="t">
            <a:normAutofit fontScale="88000"/>
          </a:bodyPr>
          <a:p>
            <a:pPr marL="469440" indent="-4694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epeda in 1996 concluded that emerging trends in supervisory practice will emphasize the following:</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ining for administrators/teachers in supervision, mentoring, and coaching.</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nsitivity to processes of professional growth and improvement.</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ining in observation and reflection on practice in teacher preparation program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gration of supervision with staff development, curriculum development, and school improvement system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roved professional practice in and outside classroom.</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inuous improvement as part of every educator’s daily life.</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cus on group processes in classrooms rather than a one-on-one supervisory experience.</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gial assistance among educators, parents, and students.</a:t>
            </a:r>
            <a:endParaRPr b="0" lang="en-US" sz="1800" spc="-1" strike="noStrike">
              <a:solidFill>
                <a:srgbClr val="003366"/>
              </a:solidFill>
              <a:latin typeface="Arial"/>
            </a:endParaRPr>
          </a:p>
          <a:p>
            <a:pPr marL="469440" indent="-46944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terms such as colleague consultation and coaching to describe collaboration among professional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ervision should embrace efforts such as:</a:t>
            </a:r>
            <a:endParaRPr b="1" lang="en-US" sz="3600" spc="-1" strike="noStrike">
              <a:solidFill>
                <a:srgbClr val="006666"/>
              </a:solidFill>
              <a:latin typeface="Arial"/>
            </a:endParaRPr>
          </a:p>
        </p:txBody>
      </p:sp>
      <p:sp>
        <p:nvSpPr>
          <p:cNvPr id="1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rdination of one-to-one assistance programs among teach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wide efforts to improve teaching and learn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lementation of parent-teacher partnerships for classroom observation and interpretation of student behavio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 of action research programs to inform decision making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tion of collegial study groups to share successes, problems, research, and dialogue about teaching and learning</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 of mentoring program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eaching of teaching, with sharing of results with other teacher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a variety of self-assessment and self-improvement pla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lective discussion and writing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sterial roles of principals and supervisors include the following:</a:t>
            </a:r>
            <a:endParaRPr b="1" lang="en-US" sz="3600" spc="-1" strike="noStrike">
              <a:solidFill>
                <a:srgbClr val="006666"/>
              </a:solidFill>
              <a:latin typeface="Arial"/>
            </a:endParaRPr>
          </a:p>
        </p:txBody>
      </p:sp>
      <p:sp>
        <p:nvSpPr>
          <p:cNvPr id="187"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rpos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ing harmony</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alizing value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tivat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ing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ing</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e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ers suggest the following roles and behaviors for would-be educational leaders.</a:t>
            </a:r>
            <a:endParaRPr b="1" lang="en-US" sz="3600" spc="-1" strike="noStrike">
              <a:solidFill>
                <a:srgbClr val="0066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critical humanists who support the goals of democrac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opt the ethic of ca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s should operate from their personal values and should lead with soul, passion, and purpo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al leadershi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dership, parent involvement, professional commitment and collaboration among the staf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udy</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ggest that even good instructional leaders that have good positive attitudes and positive strategies have only mixed succes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due to principals lacking communication skills and the knowledge essential for planning,change and instructional improv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s opinions on actions of a good instructional leader.</a:t>
            </a:r>
            <a:endParaRPr b="1" lang="en-US" sz="3600" spc="-1" strike="noStrike">
              <a:solidFill>
                <a:srgbClr val="006666"/>
              </a:solidFill>
              <a:latin typeface="Arial"/>
            </a:endParaRPr>
          </a:p>
        </p:txBody>
      </p:sp>
      <p:sp>
        <p:nvSpPr>
          <p:cNvPr id="191"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k openly and frequently with teachers about instruction.</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time and peer connections for teacher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ower teacher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embrace the challenges of change.</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 Cited</a:t>
            </a:r>
            <a:endParaRPr b="1" lang="en-US" sz="3600" spc="-1" strike="noStrike">
              <a:solidFill>
                <a:srgbClr val="006666"/>
              </a:solidFill>
              <a:latin typeface="Arial"/>
            </a:endParaRPr>
          </a:p>
        </p:txBody>
      </p:sp>
      <p:sp>
        <p:nvSpPr>
          <p:cNvPr id="193" name="Text Box 4"/>
          <p:cNvSpPr/>
          <p:nvPr/>
        </p:nvSpPr>
        <p:spPr>
          <a:xfrm>
            <a:off x="1066680" y="2631960"/>
            <a:ext cx="862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lase, Jo, and Blase, Joseph. </a:t>
            </a:r>
            <a:r>
              <a:rPr b="0" i="1" lang="en-US" sz="2400" spc="-1" strike="noStrike">
                <a:solidFill>
                  <a:srgbClr val="003366"/>
                </a:solidFill>
                <a:latin typeface="Times New Roman"/>
              </a:rPr>
              <a:t>Handbook of Instructional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Leadership – How Really Good Principals Promote Teaching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and Learning.</a:t>
            </a:r>
            <a:r>
              <a:rPr b="0" lang="en-US" sz="2400" spc="-1" strike="noStrike">
                <a:solidFill>
                  <a:srgbClr val="003366"/>
                </a:solidFill>
                <a:latin typeface="Times New Roman"/>
              </a:rPr>
              <a:t>California: Corwin Press, 1998.</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DM 618 – Educational Leadership</a:t>
            </a:r>
            <a:br>
              <a:rPr sz="3600"/>
            </a:br>
            <a:r>
              <a:rPr b="1" lang="en-US" sz="3600" spc="-1" strike="noStrike">
                <a:solidFill>
                  <a:srgbClr val="003366"/>
                </a:solidFill>
                <a:latin typeface="Arial"/>
              </a:rPr>
              <a:t>Summer I 2004</a:t>
            </a:r>
            <a:br>
              <a:rPr sz="3600"/>
            </a:br>
            <a:r>
              <a:rPr b="1" lang="en-US" sz="3600" spc="-1" strike="noStrike">
                <a:solidFill>
                  <a:srgbClr val="003366"/>
                </a:solidFill>
                <a:latin typeface="Arial"/>
              </a:rPr>
              <a:t>Dr. Eury</a:t>
            </a:r>
            <a:endParaRPr b="1" lang="en-US" sz="3600" spc="-1" strike="noStrike">
              <a:solidFill>
                <a:srgbClr val="006666"/>
              </a:solidFill>
              <a:latin typeface="Arial"/>
            </a:endParaRPr>
          </a:p>
        </p:txBody>
      </p:sp>
      <p:sp>
        <p:nvSpPr>
          <p:cNvPr id="1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d L. Carp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ructional Supervision Legacy: From Control to Collaboration</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ifications of Supervision over the last 140 years</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ientific Management</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cratic interaction approach</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perative supervision</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vision as curriculum development</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nical supervision</a:t>
            </a:r>
            <a:endParaRPr b="0" lang="en-US" sz="1800" spc="-1" strike="noStrike">
              <a:solidFill>
                <a:srgbClr val="003366"/>
              </a:solidFill>
              <a:latin typeface="Arial"/>
            </a:endParaRPr>
          </a:p>
          <a:p>
            <a:pPr marL="533520" indent="-53352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oup dynamics and peer emphasis</a:t>
            </a:r>
            <a:endParaRPr b="0" lang="en-US" sz="18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ching and instructional supervision</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egial forms of supervision have existed but advanced forms are rarely found in practice</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rol supervision still dominates professional pract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on Instructional Supervision</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arding Supervision – 5 tasks of supervision (Glickman 1985)</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rect assistance</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roup development</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urriculum development</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tion research</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ff development</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upervision in Practice</a:t>
            </a:r>
            <a:endParaRPr b="0" lang="en-US" sz="1600" spc="-1" strike="noStrike">
              <a:solidFill>
                <a:srgbClr val="003366"/>
              </a:solidFill>
              <a:latin typeface="Arial"/>
            </a:endParaRPr>
          </a:p>
          <a:p>
            <a:pPr marL="533520" indent="-533520">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munication 2. Staff development 3. Instructional program 4. Planning and Change 5. Motivating and organizing 6. Observation and conferencing 7. Curriculum 8. Problem solving and decision making 9. Service to teachers 10. Personal development 11. Community relations 12. Research and program evaluation</a:t>
            </a:r>
            <a:endParaRPr b="0" lang="en-US" sz="1600" spc="-1" strike="noStrike">
              <a:solidFill>
                <a:srgbClr val="003366"/>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ervision in Practice (Pajak1989)</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munication</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taff development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Instructional program</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lanning and Chang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otivating and organizing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Observation and conferencing</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urriculum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roblem solving and decision making</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ervice to teachers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ersonal development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ommunity relations </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Research and program evaluation</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arding Instructional Leadership</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anchor="t">
            <a:normAutofit fontScale="83000"/>
          </a:bodyPr>
          <a:p>
            <a:pPr marL="442800" indent="-442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eppard found positive relationship between effective instructional leadership behaviors and teacher commitment, professional involvement, innovativeness. Good behaviors by principals:</a:t>
            </a:r>
            <a:endParaRPr b="0" lang="en-US" sz="24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aming school goal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cating school goal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vising and evaluating instruction</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ordinating the curriculum</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nitoring student progres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tecting instructional time</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taining high visibility</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ing incentives for teachers</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moting professional development</a:t>
            </a:r>
            <a:endParaRPr b="0" lang="en-US" sz="1800" spc="-1" strike="noStrike">
              <a:solidFill>
                <a:srgbClr val="003366"/>
              </a:solidFill>
              <a:latin typeface="Arial"/>
            </a:endParaRPr>
          </a:p>
          <a:p>
            <a:pPr marL="442800" indent="-442800">
              <a:lnSpc>
                <a:spcPct val="9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viding incentives for lear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Empowerment Related to Supervision and Instructional Leadership</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itzug 1994 constructed the following taxonomy for empowering principal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Creating a supportive environment for critique of instruction by educator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ilitation: Stimulating critique of instruction by educator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ility: Making it possible to give educators voice by publishing and acting on results of critiq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7:06:55Z</dcterms:created>
  <dc:creator>tcarper</dc:creator>
  <dc:description/>
  <dc:language>en-US</dc:language>
  <cp:lastModifiedBy>AEURY</cp:lastModifiedBy>
  <dcterms:modified xsi:type="dcterms:W3CDTF">2011-10-17T14:28:48Z</dcterms:modified>
  <cp:revision>6</cp:revision>
  <dc:subject/>
  <dc:title>Handbook of Instructional Leadership</dc:title>
</cp:coreProperties>
</file>